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AD1-0A1B-41C3-8FB0-16D73DC4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085-07C5-4324-A4E8-9F996C8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7DD83-ACDA-4076-93AD-5CA02D24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8B531-B14D-410B-B258-1AB1C6B5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E229E-76A2-4B1A-88C4-A5EE4066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BC797-CE56-4D4D-BBC7-EB830E64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68376-0CA0-453C-8D32-912AA723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D9E63-29C9-494A-A89B-1382D27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DFB8-180C-4477-8E8A-A53BF350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0504F-CD39-474D-86B4-F0224BE5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FB384-C0F0-46D9-99DA-CCBDDEDD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6D99E-0957-48F5-9A3B-5A5B1F49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387-DF29-47B5-94BA-B8AC8622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9313F-1F0B-44E6-B086-8E7107CD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FF846-6FC9-4BA6-BE9D-871C4AA3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9EC52-68F4-4086-A177-AB86B92E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6F742-F1B2-4871-997D-09255237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A71CD-256E-439A-B3B3-D4E11F5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7942B-E88F-4488-BA00-3CFF690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C1083-871A-41EB-B8C0-299DA514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C88F0-DD4F-484F-9CFD-FA8CB14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77AE7-C0CB-4B3A-8421-915ABCC5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333A8-AD13-47FA-86FA-5538BF02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BC5-CEB9-4C81-A246-E8BB4213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EE3FD-018D-4DF2-B30D-7B507242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A694AD-C64E-4603-86C5-B6D1C575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3B689B-6999-4A2B-81B6-5779F099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2A6ACD-77D0-4E62-AF8F-625D9C75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997448-FBD4-425C-AA15-C893D3B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DAC81C-AA6B-467C-8FC8-FF735384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FA2B22-1CA6-475A-A384-1D1DB44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125D36-3496-4377-ABB0-B0FACAC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38E3A3-9E86-400B-BB9D-66CA956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55E11E-5693-4967-B1E5-19ED24F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56BD-3B7A-407A-9C78-6FB6C078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87DB00-E689-4CE6-94E5-C7F12940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C2DEE1-8C55-4768-93DE-E0E65F7D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B81D1F-2487-4D71-AA43-69FCB604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B4E4B-86B3-4619-843E-EE1B6639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B0B4C-11A9-474F-AE52-B34644B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96370-4627-474A-B0D2-74EA29A9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E182C-2D62-4424-91C0-36F6C0E6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34F89-66CA-4704-99CE-646DB7B0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8BBA9-A274-449E-A260-164990F5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03167-265C-425F-8EE2-DC60FF26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2BAA-6304-4176-9671-DC47FFA9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B5A1A-69D9-4AA1-876B-B895E4D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E57F9-296E-4AD0-B1F7-CAB3EAD5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CD192-FDEB-48E8-8878-1B6A6823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47B0D-6D6B-4BC8-A170-B181C39D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972EB-DDED-4276-85F5-391774BF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5ACDE4-BD5D-4E3F-8029-B452D4DE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44E9B3-BD09-40BC-BE9C-DEC50FA2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8EC202-7470-4D87-92F9-9C764538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C8B543-EFC0-4A65-8CEF-F057FB9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8033B3-E618-4A19-AEE4-B9D7FAD8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6753-C8AE-46E6-AED8-12A917D3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81D18F-DBD2-4F79-989A-B8008A11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A19B95-55C0-40FC-98A6-61B57EB4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57C6B1-4D2D-4EC0-A427-FA7F46CE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163BE9-B2CE-42D7-9987-28D3907F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40358C-8A9C-465D-987A-F75110CE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3C3506-28EA-4ED8-9F29-0398AD3F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F0C254-2091-4801-B6B8-4BD18A2B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3C12-AD6E-4AE1-8A59-31721C95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B62C-F811-41DC-B814-533B66BE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974A-A468-4A6C-A688-16FCAAE7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D12B-D2FF-4A60-9F13-54512B2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CE5-9A5F-4224-90CE-F9377135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021-D388-4E6A-9BAB-F687EC8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B137-3CC6-4270-83F6-07AE5864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A8CE-8F90-4261-9A8D-384E56D0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4474-5465-4AA7-AF85-BDB88E35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E87D-BE5D-49A0-B6D0-307CAEB7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41A9-AD8B-4FB8-87B3-0AD6F0C9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EDFF-B386-4A15-B8F4-19B3C212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4E6F-38C9-40C2-A109-76427686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4B0F-C664-4BAA-AE26-D16FE764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4079-0228-4E2D-AAAD-3FB0E76C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0DF-6B52-4765-BDCD-BF7FC7EB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3D58-F07A-479F-B817-6C674786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9F4F-D7C6-4C01-BB4C-D027C65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8938-4BCC-419E-8281-E82EA1C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31B2-EC24-4D17-A7A2-9EEDDC74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5690-175C-41E8-AD0E-F0C46874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97E8-0545-4F39-AE69-9F30B2B4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9492-018D-4B99-98D6-AC27DCD8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5CE2-1C56-4346-8B7B-26D59E90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4EB7-AB70-40BB-8541-D9F10CA4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24E4-F2F1-4BC8-B3B8-D3624C50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068-7E6B-4F6C-8551-D9FFE2BC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34DD-4ACB-4D21-AE8A-E52F9E96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79AA-D086-4EFC-822B-20934700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0E9C-0BB3-4E6F-A749-C058FDB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1218-3F7C-4069-854A-5E731935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14582-1C6A-483E-8295-C214D6A3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7C2F-03C4-4BB0-B828-56F614B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730B-C910-463F-A1BF-043C96BE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FBA0-EF6F-4401-A8A4-75E17C80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C975B-D4AA-46ED-92B7-8396AAEC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5FF5-1118-41E2-BCB9-C0C9FD67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D23-AAB5-401F-BCCE-FA64F6E7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1E5BE-4EFC-4AE8-96F4-1304A65C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61A7-5A49-472C-809B-372171B7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5E48-086F-4777-BEC1-DC1A3F7F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F75BE-49CC-4363-ACC3-B291C595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366D-90F4-41ED-92EA-DA30D754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8D37-F6B8-4015-B66B-8D6EF568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BA3F4-FC86-472B-98DB-2D45FD9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C0077-6ECA-4409-86C0-3C4025A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C9C1-99E3-416C-B630-81FD23AE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7327-80AD-4518-B67A-81623009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55D-2F3D-4495-A908-A426C1EF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EE9C-8A47-4CFF-A1A2-5F6489B4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F9144-145A-43E0-BA24-DB27A56E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87B65-B9BA-406B-A45E-BE89D007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1A16E-0E93-4F71-9D40-0E77E4E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448C-BE04-4194-9DDA-9E90CF9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EC4E-887B-44E2-A25C-F338B077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1710A-D19B-4D80-B79E-73C31D71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2BB04-99FF-40AA-9CA6-264B649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4CDD-A858-483B-94EA-3825681F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6289-F741-40B0-B0E0-69C0AC1F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F33-3C06-4A35-8A2D-D785A51C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B494F-2766-4495-A88B-5D5049B4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A7D45-371B-40BE-ABF7-4F26E228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D15D6-9DD5-4533-A345-67F36C6B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0E31-5648-4ED1-9833-97684796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5B09C-7223-4A28-9C0C-74ED422A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7D32-371F-48A8-B260-382D168C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52A83-8678-475F-B1A7-6C117F6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E2CDC-D3A5-4DF7-8D5E-0C801E73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8F145-5085-4D4C-A32F-EA1ABD13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C8D94-7E82-4E1B-AF32-A956D36C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552-DD6B-489F-A109-D798B3B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093C-BB99-4D41-B99A-81E6EAD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27FC6-C649-4265-8633-92A84D56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CE95-1598-470E-B3BC-22CC7BDB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5937-546E-41C5-A329-07E9DD5C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39A66-5CC2-4CAB-B1B8-4AC125DB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3FD8-00C3-417B-86D3-4E5B9C51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C922E-2DDB-4B2C-98E7-1101A21E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87AC6-BFF9-45B8-A615-5B1FAE96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41B4-A718-4320-BC35-F4228A2A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15322-44F6-4D2B-B975-B0924951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FEA-9FBA-4DEB-AB56-0179F7A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8AFCD-2C31-4C92-9D22-952F6BD0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DF283-5287-4D93-9B46-05D6B0F9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4312F-D72D-45AA-A82F-DD97D16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DF7F3-FF4A-4862-8330-265AF95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A66BA-FADA-49F3-8746-A0037247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B1842-2621-41DA-9985-4BA4F4B4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26C33-5896-40DD-8A8D-B23490FD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D1042-CB3A-4D1F-B6F2-4B922C1A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3C5E0-6495-4B04-A5FD-81275A7D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3D996-25E6-4AA2-A931-6BE6101D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54F3-AA21-4EE3-BF82-92C3A2862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240-A842-4AB5-B8CF-3FFF852F56C2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FCCB-3ED1-43B2-A5AD-C20D11186D6C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dt" idx="3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CD29-FFFF-407E-A2D0-9C175138A924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1007-F311-4D03-890A-A919316BC99A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DD7D-EDD9-40D1-98F5-240D00A12A8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434-8523-4140-9050-C70D568A1B6D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F1A-3632-4A5B-A5EA-EAB0EB34AA18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1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FB83-0039-46D7-A3BA-4A6DA03C1BA3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7EDF-54B4-4EEE-9AB7-F3EA84238915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B707-E1C1-4016-A516-A7A5972601F0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797-3D64-46DD-862F-0DD8657D5271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A83A-A965-4E3C-9E6B-73E87C1AED8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Texas Electric Cooperativ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45720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le Ford Shal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RG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/11/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steclogo1"/>
          <p:cNvPicPr/>
          <p:nvPr/>
        </p:nvPicPr>
        <p:blipFill>
          <a:blip r:embed="rId1"/>
          <a:srcRect l="19028" t="13283" r="31292" b="20297"/>
          <a:stretch/>
        </p:blipFill>
        <p:spPr>
          <a:xfrm>
            <a:off x="2133720" y="1523880"/>
            <a:ext cx="50292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Jackson Transmission Project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(Vanderbilt to El Campo Rebuild)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236232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Submitted to RPG on 10/07/1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Under ERCOT independent review as of 11/01/1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4" name="Content Placeholder 6" descr=""/>
          <p:cNvPicPr/>
          <p:nvPr/>
        </p:nvPicPr>
        <p:blipFill>
          <a:blip r:embed="rId1"/>
          <a:stretch/>
        </p:blipFill>
        <p:spPr>
          <a:xfrm>
            <a:off x="3124080" y="1287360"/>
            <a:ext cx="56390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23623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Karnes &amp; Medina Transmission Projects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23623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Under Stud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7" name="Content Placeholder 2" descr=""/>
          <p:cNvPicPr/>
          <p:nvPr/>
        </p:nvPicPr>
        <p:blipFill>
          <a:blip r:embed="rId1"/>
          <a:stretch/>
        </p:blipFill>
        <p:spPr>
          <a:xfrm>
            <a:off x="3124080" y="1635120"/>
            <a:ext cx="56390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69 kV system is rated at 40-45 MVA and has limited thermal capacity to support new loa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69 kV system is voltage limit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eactive support critical to support load levels expected by 2012 summer peak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iming of new loads requires transmission solutions that can be quickly implemented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ouble circuit 138/69 kV transmission reduces/defers substation conversion cost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lanning Considera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4" descr="stecoverh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" descr="stecoverh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C MEMBER C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nes Electric Cooperative (K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rton Electric Cooperative (WC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Electric Cooperative (J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toria Electric Cooperative (V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Patricio Electric Cooperative (SP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ces Electric Cooperative (N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na Electric Cooperative (M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ic Valley Electric Cooperative (MV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C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 kV transmission: approximately 1430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8 kV transmission: approximately 495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5 kV transmission: approximately 72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TEC transmission: approximately 2000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mileage data from ERCOT 2011 summer peak case updated in February,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C Transmiss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STEC SYSTEM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Aderhold MVE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C Member 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Load: 1205 MW ( 2010 NC PE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VEC: 581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: 16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C: 11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: 1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C: 8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C: 64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CEC: 47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: 4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1368000" y="2971440"/>
            <a:ext cx="6480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Calibri"/>
              </a:rPr>
              <a:t>Oil reserves estimated at 3 billion barrels and the discovery may also contain trillions of cubic feet of natural ga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Calibri"/>
              </a:rPr>
              <a:t>May be the sixth largest oil field discovered in the US and the largest discovery in the past 40 yea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Eagle Ford Shale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Well Activity in the Eagle Ford Shale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As of April 29, 2011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1,698 Wells Permitt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111 on schedule – oi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220 on schedule - ga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5" name="Content Placeholder 4" descr="EagleFordShalePlay201105-large.jpg"/>
          <p:cNvPicPr/>
          <p:nvPr/>
        </p:nvPicPr>
        <p:blipFill>
          <a:blip r:embed="rId1"/>
          <a:stretch/>
        </p:blipFill>
        <p:spPr>
          <a:xfrm>
            <a:off x="3238560" y="68580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23623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STEC Coops with Eagle Ford Shale Activity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236232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Jackson Electric Coop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Karnes Electric Coop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Medina Electric Coop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Content Placeholder 4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5639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219320" y="5409720"/>
            <a:ext cx="648000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Non-coincident peak loa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Load Forecast with Eagle Ford Shale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609480" y="2819520"/>
          <a:ext cx="7874280" cy="2396880"/>
        </p:xfrm>
        <a:graphic>
          <a:graphicData uri="http://schemas.openxmlformats.org/drawingml/2006/table">
            <a:tbl>
              <a:tblPr/>
              <a:tblGrid>
                <a:gridCol w="1295640"/>
                <a:gridCol w="939600"/>
                <a:gridCol w="939960"/>
                <a:gridCol w="939600"/>
                <a:gridCol w="939960"/>
                <a:gridCol w="939600"/>
                <a:gridCol w="939960"/>
                <a:gridCol w="9399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20:42:33Z</dcterms:created>
  <dc:creator>stec</dc:creator>
  <dc:description/>
  <dc:language>en-US</dc:language>
  <cp:lastModifiedBy>John Moore</cp:lastModifiedBy>
  <dcterms:modified xsi:type="dcterms:W3CDTF">2011-11-09T18:06:24Z</dcterms:modified>
  <cp:revision>135</cp:revision>
  <dc:subject/>
  <dc:title>South Texas Electric Cooperative STEC</dc:title>
</cp:coreProperties>
</file>